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12.jpeg" ContentType="image/jpeg"/>
  <Override PartName="/ppt/media/image11.png" ContentType="image/png"/>
  <Override PartName="/ppt/media/image6.png" ContentType="image/png"/>
  <Override PartName="/ppt/media/image21.jpeg" ContentType="image/jpeg"/>
  <Override PartName="/ppt/media/image16.jpeg" ContentType="image/jpe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70E7-1306-4DE2-A9B7-15C0BC112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D3B0-ED7D-4EAC-889C-F2127BF95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981C-E21C-474F-87D1-F33880AA8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D0A7-564A-41C2-BD22-3F866131A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0CF9-B133-4516-81C5-8E6F98A8E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A32C-EDDD-4018-B1F9-B5992882F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F5E6-1A07-4C90-8676-633D9D7F2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C5CD-CD8F-4934-92B9-4C4043B79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D266-EFF4-439F-A903-67F21AC67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CABD-7318-4789-804C-A6977364D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2751-6BA5-41CB-9A45-5F32362A6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A5D9-5769-47DE-9A78-B38ACD077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2C073-ED07-4797-8033-8700DE3C45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v.dontr.ru/dontr_static_pages/ad/images/advert_index.jpg" TargetMode="External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v.dontr.ru/dontr_static_pages/ad/images/advert_index.jpg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hyperlink" Target="http://www.measurement.ru/gk/electro/images/Image569.gif" TargetMode="External"/><Relationship Id="rId4" Type="http://schemas.openxmlformats.org/officeDocument/2006/relationships/image" Target="../media/image6.png"/><Relationship Id="rId5" Type="http://schemas.openxmlformats.org/officeDocument/2006/relationships/hyperlink" Target="http://ru.wikipedia.org/wiki/&#1048;&#1079;&#1086;&#1073;&#1088;&#1072;&#1078;&#1077;&#1085;&#1080;&#1077;:Hw-watt.jpg" TargetMode="External"/><Relationship Id="rId6" Type="http://schemas.openxmlformats.org/officeDocument/2006/relationships/image" Target="../media/image7.png"/><Relationship Id="rId7" Type="http://schemas.openxmlformats.org/officeDocument/2006/relationships/hyperlink" Target="http://ru.wikipedia.org/wiki/&#1048;&#1079;&#1086;&#1073;&#1088;&#1072;&#1078;&#1077;&#1085;&#1080;&#1077;:Papinengine.jpg" TargetMode="External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v.dontr.ru/dontr_static_pages/ad/images/advert_index.jpg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v.dontr.ru/dontr_static_pages/ad/images/advert_index.jpg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v.dontr.ru/dontr_static_pages/ad/images/advert_index.jpg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v.dontr.ru/dontr_static_pages/ad/images/advert_index.jpg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v.dontr.ru/dontr_static_pages/ad/images/advert_index.jpg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Природа - Горы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832360" y="907920"/>
            <a:ext cx="33116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аш мир многообразе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ас окружает множество объек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3635280" y="285264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5796000" y="260280"/>
            <a:ext cx="3097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Информация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  <p:pic>
        <p:nvPicPr>
          <p:cNvPr id="244" name="" descr="Картинка 25 из 26668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981000"/>
            <a:ext cx="1798560" cy="244800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2627280" y="184464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132000" y="1844640"/>
            <a:ext cx="505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635280" y="1844640"/>
            <a:ext cx="505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140360" y="184464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3280" y="1844640"/>
            <a:ext cx="505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148360" y="184464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651640" y="184464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156360" y="184464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659640" y="184464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164360" y="184464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627280" y="234792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132000" y="2347920"/>
            <a:ext cx="505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635280" y="2347920"/>
            <a:ext cx="505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140360" y="234792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643280" y="2347920"/>
            <a:ext cx="505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148360" y="234792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651640" y="234792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156360" y="234792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659640" y="234792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7164360" y="234792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285264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32000" y="285264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635280" y="285264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140360" y="285264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285264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148360" y="285264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651640" y="285264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156360" y="285264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659640" y="285264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7164360" y="285264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643280" y="1844640"/>
            <a:ext cx="505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146560" y="1844640"/>
            <a:ext cx="505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651640" y="184464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156360" y="184464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659640" y="184464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164360" y="184464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140360" y="234792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643280" y="2347920"/>
            <a:ext cx="505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148360" y="234792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651640" y="234792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156360" y="234792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659640" y="234792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164360" y="234792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627280" y="285264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132000" y="285264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140360" y="285264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643280" y="285264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148360" y="285264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285264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643280" y="1844640"/>
            <a:ext cx="505080" cy="504720"/>
          </a:xfrm>
          <a:prstGeom prst="rect">
            <a:avLst/>
          </a:prstGeom>
          <a:solidFill>
            <a:srgbClr val="f5dd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643280" y="2347920"/>
            <a:ext cx="505080" cy="504720"/>
          </a:xfrm>
          <a:prstGeom prst="rect">
            <a:avLst/>
          </a:prstGeom>
          <a:solidFill>
            <a:srgbClr val="f5dd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643280" y="2852640"/>
            <a:ext cx="505080" cy="505080"/>
          </a:xfrm>
          <a:prstGeom prst="rect">
            <a:avLst/>
          </a:prstGeom>
          <a:solidFill>
            <a:srgbClr val="f5dd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700360" y="4005360"/>
            <a:ext cx="3384360" cy="100836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Бит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именьшая единица измерения, которую ввёл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Клод Шенн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4"/>
          <a:stretch/>
        </p:blipFill>
        <p:spPr>
          <a:xfrm>
            <a:off x="179280" y="4076640"/>
            <a:ext cx="191952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5796000" y="260280"/>
            <a:ext cx="3097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Информация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  <p:pic>
        <p:nvPicPr>
          <p:cNvPr id="300" name="" descr="Картинка 25 из 26668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981000"/>
            <a:ext cx="1798560" cy="244800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2556000" y="1341360"/>
            <a:ext cx="34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Единицы измер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556000" y="1916280"/>
            <a:ext cx="2808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айт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бай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бай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бай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 txBox="1"/>
          <p:nvPr/>
        </p:nvSpPr>
        <p:spPr>
          <a:xfrm>
            <a:off x="5796000" y="260280"/>
            <a:ext cx="3097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Информация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  <p:pic>
        <p:nvPicPr>
          <p:cNvPr id="304" name="" descr="Картинка 25 из 266689"/>
          <p:cNvPicPr/>
          <p:nvPr/>
        </p:nvPicPr>
        <p:blipFill>
          <a:blip r:embed="rId2"/>
          <a:stretch/>
        </p:blipFill>
        <p:spPr>
          <a:xfrm>
            <a:off x="250920" y="981000"/>
            <a:ext cx="1798560" cy="244800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2556000" y="1916280"/>
            <a:ext cx="5761080" cy="26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казывается: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1 байт = 8 би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Кбайт (один килобайт) = 1024 бай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Мбайт (один мегабайт) = 1024 Кбай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Гбайт (один гигабайт) = 1024 Мбай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" descr=""/>
          <p:cNvPicPr/>
          <p:nvPr/>
        </p:nvPicPr>
        <p:blipFill>
          <a:blip r:embed="rId2"/>
          <a:stretch/>
        </p:blipFill>
        <p:spPr>
          <a:xfrm>
            <a:off x="2124000" y="698400"/>
            <a:ext cx="7020000" cy="55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 txBox="1"/>
          <p:nvPr/>
        </p:nvSpPr>
        <p:spPr>
          <a:xfrm>
            <a:off x="5796000" y="260280"/>
            <a:ext cx="3097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Информация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  <p:sp>
        <p:nvSpPr>
          <p:cNvPr id="308" name=""/>
          <p:cNvSpPr/>
          <p:nvPr/>
        </p:nvSpPr>
        <p:spPr>
          <a:xfrm>
            <a:off x="2556000" y="1773360"/>
            <a:ext cx="4319640" cy="88668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 би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буква в клетке кроссвор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692360" y="1773360"/>
            <a:ext cx="504720" cy="504720"/>
          </a:xfrm>
          <a:prstGeom prst="rect">
            <a:avLst/>
          </a:prstGeom>
          <a:solidFill>
            <a:srgbClr val="f5dd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627280" y="3141720"/>
            <a:ext cx="4176720" cy="88668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 бай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символ, введенный с клавиату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Обои для компьютера"/>
          <p:cNvPicPr/>
          <p:nvPr/>
        </p:nvPicPr>
        <p:blipFill>
          <a:blip r:embed="rId2"/>
          <a:stretch/>
        </p:blipFill>
        <p:spPr>
          <a:xfrm>
            <a:off x="250920" y="2852640"/>
            <a:ext cx="1979640" cy="14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 txBox="1"/>
          <p:nvPr/>
        </p:nvSpPr>
        <p:spPr>
          <a:xfrm>
            <a:off x="5796000" y="260280"/>
            <a:ext cx="3097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Информация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  <p:sp>
        <p:nvSpPr>
          <p:cNvPr id="313" name=""/>
          <p:cNvSpPr/>
          <p:nvPr/>
        </p:nvSpPr>
        <p:spPr>
          <a:xfrm>
            <a:off x="2411280" y="2133720"/>
            <a:ext cx="5187960" cy="88668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0 Кбай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фотография в низком разреше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1280" y="3645000"/>
            <a:ext cx="5135760" cy="88668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 Мбай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небольшая художественная книг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 "/>
          <p:cNvPicPr/>
          <p:nvPr/>
        </p:nvPicPr>
        <p:blipFill>
          <a:blip r:embed="rId2"/>
          <a:stretch/>
        </p:blipFill>
        <p:spPr>
          <a:xfrm>
            <a:off x="539640" y="1628640"/>
            <a:ext cx="1582920" cy="158292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3"/>
          <a:stretch/>
        </p:blipFill>
        <p:spPr>
          <a:xfrm>
            <a:off x="539640" y="3573360"/>
            <a:ext cx="1584360" cy="11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2627280" y="2205000"/>
            <a:ext cx="554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недавнем исследовании аналитики компании IDC попытались оценить общий объем цифровой информации,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генерируемой в мире ежедневн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и пришли к выводу, что в прошлом году был создан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61 экзабай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161 миллиард гигабайт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 разнообразных данных - цифровых фотографий, видео, электронных писем, интернет-пейджинговых сообщений, звонков посредством IP-телефонии и т.д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2"/>
          <a:stretch/>
        </p:blipFill>
        <p:spPr>
          <a:xfrm>
            <a:off x="6877080" y="260280"/>
            <a:ext cx="2016000" cy="96696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Картинка 45 из 149"/>
          <p:cNvPicPr/>
          <p:nvPr/>
        </p:nvPicPr>
        <p:blipFill>
          <a:blip r:embed="rId3"/>
          <a:stretch/>
        </p:blipFill>
        <p:spPr>
          <a:xfrm>
            <a:off x="108000" y="2349360"/>
            <a:ext cx="208764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3708360" y="98100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еревод в бит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708360" y="1628640"/>
            <a:ext cx="33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2 байт = 12 * 8 = 96 (би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708360" y="2349360"/>
            <a:ext cx="331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 Кб = 2 * 1024 * 8  = 16384 (би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6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6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3708360" y="98100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еревод в бит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708360" y="1628640"/>
            <a:ext cx="33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2 байт = 12 * 8 = 96 (би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708360" y="2276640"/>
            <a:ext cx="1008000" cy="431640"/>
          </a:xfrm>
          <a:prstGeom prst="rect">
            <a:avLst/>
          </a:prstGeom>
          <a:solidFill>
            <a:srgbClr val="eef7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руп. 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219640" y="2276640"/>
            <a:ext cx="1008000" cy="431640"/>
          </a:xfrm>
          <a:prstGeom prst="rect">
            <a:avLst/>
          </a:prstGeom>
          <a:solidFill>
            <a:srgbClr val="eef7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л. 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716360" y="2492280"/>
            <a:ext cx="50328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516720" y="2376360"/>
            <a:ext cx="57636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7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2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3708360" y="98100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еревод в байт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708360" y="1628640"/>
            <a:ext cx="34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4 бита = 24 : 8 = 3 (байт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708360" y="2276640"/>
            <a:ext cx="1008000" cy="431640"/>
          </a:xfrm>
          <a:prstGeom prst="rect">
            <a:avLst/>
          </a:prstGeom>
          <a:solidFill>
            <a:srgbClr val="eef7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л. 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219640" y="2276640"/>
            <a:ext cx="1008000" cy="431640"/>
          </a:xfrm>
          <a:prstGeom prst="rect">
            <a:avLst/>
          </a:prstGeom>
          <a:solidFill>
            <a:srgbClr val="eef7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руп. 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716360" y="2492280"/>
            <a:ext cx="50328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6516720" y="2243160"/>
            <a:ext cx="57636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6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6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1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6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2852640"/>
            <a:ext cx="2124000" cy="863640"/>
          </a:xfrm>
          <a:prstGeom prst="ellipse">
            <a:avLst/>
          </a:prstGeom>
          <a:gradFill rotWithShape="0">
            <a:gsLst>
              <a:gs pos="0">
                <a:srgbClr val="bfd9ef"/>
              </a:gs>
              <a:gs pos="50000">
                <a:srgbClr val="ffffff"/>
              </a:gs>
              <a:gs pos="100000">
                <a:srgbClr val="bfd9ef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Eras Medium ITC"/>
              </a:rPr>
              <a:t>Объек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564000" y="1844640"/>
            <a:ext cx="2808360" cy="720720"/>
          </a:xfrm>
          <a:prstGeom prst="rect">
            <a:avLst/>
          </a:prstGeom>
          <a:gradFill rotWithShape="0">
            <a:gsLst>
              <a:gs pos="0">
                <a:srgbClr val="bfd9ef"/>
              </a:gs>
              <a:gs pos="50000">
                <a:srgbClr val="ffffff"/>
              </a:gs>
              <a:gs pos="100000">
                <a:srgbClr val="bfd9ef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Eras Medium ITC"/>
              </a:rPr>
              <a:t>Веще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564000" y="2852640"/>
            <a:ext cx="2808360" cy="720720"/>
          </a:xfrm>
          <a:prstGeom prst="rect">
            <a:avLst/>
          </a:prstGeom>
          <a:gradFill rotWithShape="0">
            <a:gsLst>
              <a:gs pos="0">
                <a:srgbClr val="bfd9ef"/>
              </a:gs>
              <a:gs pos="50000">
                <a:srgbClr val="ffffff"/>
              </a:gs>
              <a:gs pos="100000">
                <a:srgbClr val="bfd9ef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Eras Medium ITC"/>
              </a:rPr>
              <a:t>Энерг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564000" y="3860640"/>
            <a:ext cx="2808360" cy="720720"/>
          </a:xfrm>
          <a:prstGeom prst="rect">
            <a:avLst/>
          </a:prstGeom>
          <a:gradFill rotWithShape="0">
            <a:gsLst>
              <a:gs pos="0">
                <a:srgbClr val="bfd9ef"/>
              </a:gs>
              <a:gs pos="50000">
                <a:srgbClr val="ffffff"/>
              </a:gs>
              <a:gs pos="100000">
                <a:srgbClr val="bfd9ef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Eras Medium ITC"/>
              </a:rPr>
              <a:t>Информ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340000" y="2133720"/>
            <a:ext cx="1224000" cy="2158920"/>
            <a:chOff x="2340000" y="2133720"/>
            <a:chExt cx="1224000" cy="2158920"/>
          </a:xfrm>
        </p:grpSpPr>
        <p:sp>
          <p:nvSpPr>
            <p:cNvPr id="48" name=""/>
            <p:cNvSpPr/>
            <p:nvPr/>
          </p:nvSpPr>
          <p:spPr>
            <a:xfrm>
              <a:off x="2340000" y="3213000"/>
              <a:ext cx="431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640" y="2133720"/>
              <a:ext cx="0" cy="2158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771640" y="2133720"/>
              <a:ext cx="792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771640" y="3213000"/>
              <a:ext cx="792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771640" y="4292640"/>
              <a:ext cx="792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2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2484360" y="1773360"/>
            <a:ext cx="475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йдите информационный объем слов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НФОРМАТИК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095600" y="187200"/>
            <a:ext cx="144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Зад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484360" y="3068640"/>
            <a:ext cx="532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НФОРМАТИКА – 11 символов, следовательно, это сообщение несет в себе информационный объем равен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*1 = 11 байт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л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*1*8= 88 бито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42160" y="2997360"/>
            <a:ext cx="151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еш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2340000" y="1341360"/>
            <a:ext cx="5400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колько школьных учебников емкостью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50 Кбай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можно разместить на трехдюймовой дискете, если объем трехдюймовой дискеты –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,44 Мбай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7095600" y="187200"/>
            <a:ext cx="144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Зад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484360" y="3573360"/>
            <a:ext cx="5329440" cy="10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Мбайт=1024 Кбай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,44Мбайт = 1,44*1024 = 1474,56 Кбай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474,56 Кбайт / 350 Кбайт 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 учебн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42160" y="3500280"/>
            <a:ext cx="151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еш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2988000" y="260280"/>
            <a:ext cx="57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Объём информационных носи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4" name=""/>
          <p:cNvGraphicFramePr/>
          <p:nvPr/>
        </p:nvGraphicFramePr>
        <p:xfrm>
          <a:off x="179280" y="1413000"/>
          <a:ext cx="5688000" cy="4032000"/>
        </p:xfrm>
        <a:graphic>
          <a:graphicData uri="http://schemas.openxmlformats.org/drawingml/2006/table">
            <a:tbl>
              <a:tblPr/>
              <a:tblGrid>
                <a:gridCol w="2845080"/>
                <a:gridCol w="2842920"/>
              </a:tblGrid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сите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ё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45" name="" descr="Картинка 37 из 5117"/>
          <p:cNvPicPr/>
          <p:nvPr/>
        </p:nvPicPr>
        <p:blipFill>
          <a:blip r:embed="rId2"/>
          <a:stretch/>
        </p:blipFill>
        <p:spPr>
          <a:xfrm>
            <a:off x="971640" y="1989000"/>
            <a:ext cx="1296720" cy="1092240"/>
          </a:xfrm>
          <a:prstGeom prst="rect">
            <a:avLst/>
          </a:prstGeom>
          <a:ln w="0">
            <a:noFill/>
          </a:ln>
        </p:spPr>
      </p:pic>
      <p:pic>
        <p:nvPicPr>
          <p:cNvPr id="346" name="" descr=""/>
          <p:cNvPicPr/>
          <p:nvPr/>
        </p:nvPicPr>
        <p:blipFill>
          <a:blip r:embed="rId3"/>
          <a:stretch/>
        </p:blipFill>
        <p:spPr>
          <a:xfrm>
            <a:off x="900000" y="3168720"/>
            <a:ext cx="1219320" cy="102852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4"/>
          <a:stretch/>
        </p:blipFill>
        <p:spPr>
          <a:xfrm>
            <a:off x="1116000" y="4292640"/>
            <a:ext cx="1028880" cy="10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2988000" y="260280"/>
            <a:ext cx="57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Объём информационных носи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79280" y="1413000"/>
          <a:ext cx="5688000" cy="4032000"/>
        </p:xfrm>
        <a:graphic>
          <a:graphicData uri="http://schemas.openxmlformats.org/drawingml/2006/table">
            <a:tbl>
              <a:tblPr/>
              <a:tblGrid>
                <a:gridCol w="2845080"/>
                <a:gridCol w="2842920"/>
              </a:tblGrid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сите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ё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1,44 Мбай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40-120 Гбай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650 Мбай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4,7 Гбайт- 17 Гбай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50" name="" descr="Картинка 37 из 5117"/>
          <p:cNvPicPr/>
          <p:nvPr/>
        </p:nvPicPr>
        <p:blipFill>
          <a:blip r:embed="rId2"/>
          <a:stretch/>
        </p:blipFill>
        <p:spPr>
          <a:xfrm>
            <a:off x="971640" y="1989000"/>
            <a:ext cx="1296720" cy="109224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3"/>
          <a:stretch/>
        </p:blipFill>
        <p:spPr>
          <a:xfrm>
            <a:off x="900000" y="3168720"/>
            <a:ext cx="1219320" cy="102852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4"/>
          <a:stretch/>
        </p:blipFill>
        <p:spPr>
          <a:xfrm>
            <a:off x="1116000" y="4292640"/>
            <a:ext cx="1028880" cy="10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/>
          <p:nvPr/>
        </p:nvSpPr>
        <p:spPr>
          <a:xfrm>
            <a:off x="2411280" y="2205000"/>
            <a:ext cx="6121440" cy="184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акова основная единица измерения информации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колько байт содержит 1 Кб информации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ак подсчитать количество информации, передаваемое в символьном сообщении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822480" y="352440"/>
            <a:ext cx="340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опросы для самоконтро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9" dur="5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4" dur="500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9" dur="500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5796000" y="260280"/>
            <a:ext cx="3097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Вещество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79280" y="907920"/>
            <a:ext cx="2089080" cy="12906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395280" y="2637000"/>
            <a:ext cx="1523880" cy="19047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498920" y="2276640"/>
            <a:ext cx="4645080" cy="100836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Грам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— изначально определялся как масса 1 см³ воды при температуре 4 °C и давлении в 1 атмосфер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56000" y="1341360"/>
            <a:ext cx="34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Единицы измер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556000" y="1916280"/>
            <a:ext cx="2808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рам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илограм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он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Центн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рат (0,2 г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57080" y="4003560"/>
            <a:ext cx="4547160" cy="100836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Килограм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определяется как ма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эталонного килограмма, хранящего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Палате ме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и весов около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Париж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5796000" y="260280"/>
            <a:ext cx="3097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Энергия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  <p:sp>
        <p:nvSpPr>
          <p:cNvPr id="61" name=""/>
          <p:cNvSpPr/>
          <p:nvPr/>
        </p:nvSpPr>
        <p:spPr>
          <a:xfrm>
            <a:off x="4427640" y="2637000"/>
            <a:ext cx="3095640" cy="210564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Ватт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диница названа в честь шотландско-ирландского изобретателя-механика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Джеймса Уатт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Ватта), создателя универсальной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паровой машин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556000" y="1341360"/>
            <a:ext cx="34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Единицы измер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56000" y="1916280"/>
            <a:ext cx="2808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жо́ул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ло́рия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ат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324000" y="981000"/>
            <a:ext cx="1454040" cy="18003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Картинка 4 из 18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79280" y="3284640"/>
            <a:ext cx="2017800" cy="19476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Джеймс Уатт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634160" y="2708280"/>
            <a:ext cx="1509840" cy="20890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Первая паровая машина Папена. 1690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238560" y="3933720"/>
            <a:ext cx="776160" cy="20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5796000" y="260280"/>
            <a:ext cx="3097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Информация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  <p:sp>
        <p:nvSpPr>
          <p:cNvPr id="69" name=""/>
          <p:cNvSpPr/>
          <p:nvPr/>
        </p:nvSpPr>
        <p:spPr>
          <a:xfrm>
            <a:off x="2556000" y="1773360"/>
            <a:ext cx="34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ем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Картинка 25 из 26668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981000"/>
            <a:ext cx="1798560" cy="244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2556000" y="2349360"/>
            <a:ext cx="62672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Единицы измерения информаци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5796000" y="260280"/>
            <a:ext cx="3097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Информация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  <p:pic>
        <p:nvPicPr>
          <p:cNvPr id="73" name="" descr="Картинка 25 из 26668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981000"/>
            <a:ext cx="1798560" cy="244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262728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132000" y="198900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35280" y="198900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14036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43280" y="198900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14836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65164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15636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65964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436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627280" y="249228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132000" y="249228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635280" y="249228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49228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43280" y="249228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148360" y="249228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651640" y="249228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56360" y="249228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659640" y="249228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164360" y="249228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627280" y="299736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2000" y="2997360"/>
            <a:ext cx="505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635280" y="2997360"/>
            <a:ext cx="505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140360" y="299736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43280" y="2997360"/>
            <a:ext cx="505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148360" y="299736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651640" y="299736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56360" y="299736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659640" y="299736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164360" y="299736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5796000" y="260280"/>
            <a:ext cx="3097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Информация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  <p:pic>
        <p:nvPicPr>
          <p:cNvPr id="105" name="" descr="Картинка 25 из 26668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981000"/>
            <a:ext cx="1798560" cy="2448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62728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32000" y="198900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35280" y="198900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14036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643280" y="198900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14836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65164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15636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65964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16436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627280" y="249228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132000" y="249228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635280" y="249228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140360" y="249228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3280" y="249228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148360" y="249228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651640" y="249228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56360" y="249228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659640" y="249228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164360" y="249228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627280" y="299736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132000" y="2997360"/>
            <a:ext cx="505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635280" y="2997360"/>
            <a:ext cx="505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140360" y="299736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43280" y="2997360"/>
            <a:ext cx="505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148360" y="299736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651640" y="299736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156360" y="299736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59640" y="299736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164360" y="299736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71640" y="3789360"/>
            <a:ext cx="309564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Как же пишутся программы?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 особых языках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 из них простейшим самым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……числится пока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643280" y="198900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146560" y="198900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5164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15636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65964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16436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500"/>
                            </p:stCondLst>
                            <p:childTnLst>
                              <p:par>
                                <p:cTn id="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500"/>
                            </p:stCondLst>
                            <p:childTnLst>
                              <p:par>
                                <p:cTn id="1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796000" y="260280"/>
            <a:ext cx="3097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Информация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  <p:pic>
        <p:nvPicPr>
          <p:cNvPr id="144" name="" descr="Картинка 25 из 26668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981000"/>
            <a:ext cx="1798560" cy="24480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262728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32000" y="198900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635280" y="198900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14036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43280" y="198900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4836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65164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5636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65964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16436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627280" y="249228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132000" y="249228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635280" y="249228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140360" y="249228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43280" y="249228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48360" y="249228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651640" y="249228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156360" y="249228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659640" y="249228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164360" y="249228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627280" y="299736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32000" y="2997360"/>
            <a:ext cx="505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635280" y="2997360"/>
            <a:ext cx="505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140360" y="299736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643280" y="2997360"/>
            <a:ext cx="505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148360" y="299736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51640" y="299736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56360" y="299736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659640" y="299736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164360" y="299736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843280" y="3645000"/>
            <a:ext cx="309564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У тебя вопросов много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дскажу тебе я с кем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ы в режиме диалога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можешь сто решить проблем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вечает без капризов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давай вопрос быстрей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Этот умный телевизор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зывается 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643280" y="198900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46560" y="198900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65164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15636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65964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164360" y="198900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40360" y="249228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643280" y="249228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148360" y="249228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651640" y="249228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156360" y="249228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659640" y="249228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164360" y="249228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500"/>
                            </p:stCondLst>
                            <p:childTnLst>
                              <p:par>
                                <p:cTn id="12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500"/>
                            </p:stCondLst>
                            <p:childTnLst>
                              <p:par>
                                <p:cTn id="13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3000"/>
                            </p:stCondLst>
                            <p:childTnLst>
                              <p:par>
                                <p:cTn id="13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3635280" y="285264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5796000" y="260280"/>
            <a:ext cx="3097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Информация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  <p:pic>
        <p:nvPicPr>
          <p:cNvPr id="191" name="" descr="Картинка 25 из 26668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981000"/>
            <a:ext cx="1798560" cy="24480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2627280" y="184464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132000" y="1844640"/>
            <a:ext cx="505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635280" y="1844640"/>
            <a:ext cx="505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140360" y="184464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643280" y="1844640"/>
            <a:ext cx="505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148360" y="184464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51640" y="184464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156360" y="184464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659640" y="184464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164360" y="184464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627280" y="234792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132000" y="2347920"/>
            <a:ext cx="505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635280" y="2347920"/>
            <a:ext cx="505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140360" y="234792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643280" y="2347920"/>
            <a:ext cx="505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148360" y="234792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651640" y="234792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156360" y="234792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659640" y="234792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164360" y="234792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627280" y="285264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132000" y="285264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635280" y="285264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140360" y="285264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643280" y="285264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148360" y="285264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651640" y="285264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156360" y="285264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659640" y="285264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164360" y="285264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41520" y="3429000"/>
            <a:ext cx="3888000" cy="28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Тут нам надо разобраться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ля чего же этот ящик?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н в себя бумагу тащит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 сейчас же буквы, точки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пятые – строчка к строчке –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печатает в момент!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чень нужный инструмент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печатает картинку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овкий мастер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труйный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643280" y="1844640"/>
            <a:ext cx="505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146560" y="1844640"/>
            <a:ext cx="505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651640" y="184464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156360" y="184464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659640" y="184464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164360" y="184464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140360" y="234792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643280" y="2347920"/>
            <a:ext cx="505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148360" y="234792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651640" y="234792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156360" y="234792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659640" y="234792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164360" y="2347920"/>
            <a:ext cx="504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627280" y="285264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132000" y="285264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140360" y="285264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2852640"/>
            <a:ext cx="50508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48360" y="285264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651640" y="2852640"/>
            <a:ext cx="50472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500"/>
                            </p:stCondLst>
                            <p:childTnLst>
                              <p:par>
                                <p:cTn id="15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500"/>
                            </p:stCondLst>
                            <p:childTnLst>
                              <p:par>
                                <p:cTn id="16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3000"/>
                            </p:stCondLst>
                            <p:childTnLst>
                              <p:par>
                                <p:cTn id="16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4T14:58:26Z</dcterms:created>
  <dc:creator>User</dc:creator>
  <dc:description/>
  <dc:language>en-US</dc:language>
  <cp:lastModifiedBy>User</cp:lastModifiedBy>
  <dcterms:modified xsi:type="dcterms:W3CDTF">2008-01-30T18:46:57Z</dcterms:modified>
  <cp:revision>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